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391-BA5D-4F09-8D86-C56AEA09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0831-82D2-4412-B284-CD4A33E8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E26-9193-4434-AFAC-0B1F94BF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C6E-9EB8-4A46-8164-97510AC1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363-0154-4F52-9969-CA4441AA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278-5283-422E-A95C-9DCBEB6F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6820-AC8A-4A5F-B627-64F84811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3C2-5AB4-428F-876D-20FBCE32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2CD-8C9E-4437-80D7-90E255FF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8C0-92CD-4310-92E1-F39A3FE8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FCB-83CF-4291-92E7-2E118E55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89D6-F953-4DB5-94E7-038331BE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CAD5-108B-4080-9871-75C0323A9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 verano en el cri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ax Fein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y he ido bucear. El agua estaba muy clara y hermosa. Me dicidi a ir a bucear no wind surf, bucear parecia mas divert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114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a el fine de semana en el hotel. Que era una hotel muy agradable, en un lugar muy hermoso. Yo estaba muy feliz de poder estar en ese hot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l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y hace calor en la playa. El sol brilla en el cielo en la playa. Me encanta ir a la playa 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qui aqua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572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i vacaciones yo tambien fui el esqui aquatico. Fue muy divertido, pero un poco dificil. Mi familia estaba en el barco para que pudieran verme y me gusto 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352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06:55Z</dcterms:created>
  <dc:creator>feinbergmax</dc:creator>
  <dc:description/>
  <dc:language>en-US</dc:language>
  <cp:lastModifiedBy>feinbergmax</cp:lastModifiedBy>
  <dcterms:modified xsi:type="dcterms:W3CDTF">2011-11-30T14:29:17Z</dcterms:modified>
  <cp:revision>4</cp:revision>
  <dc:subject/>
  <dc:title>Me verano en el cribe</dc:title>
</cp:coreProperties>
</file>